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752F-6B10-4149-A9DD-DA94A2976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68E7-261C-453D-93A8-A7BE8914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5FA1-BBF8-4D81-9535-AA8A11303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94DA-1BCE-46A1-B1EB-0F1AE7773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835D-45A7-4A49-9D16-1B0181C7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ADFA-97B8-4C52-958D-1585FE27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75F3-99CB-46D3-AFD6-1FCA2290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8530-3F51-445D-BFFA-220887F4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E46D-3BE8-4628-A637-1DA78020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E679-0E64-4B4C-993C-DA073E81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B8FA-C7C2-4CD4-B882-E2720BBE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4070-78EB-4A06-A6A5-73877A86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35D4-B455-4577-B64E-20B46E81510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4d9a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omic Sans MS"/>
              </a:rPr>
              <a:t>CLASSE 1°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omic Sans MS"/>
              </a:rPr>
              <a:t>RIPRODURRE LE STORIE CON </a:t>
            </a:r>
            <a:r>
              <a:rPr b="1" lang="it-IT" sz="4000" spc="-1" strike="noStrike">
                <a:solidFill>
                  <a:srgbClr val="ff0066"/>
                </a:solidFill>
                <a:latin typeface="Comic Sans MS"/>
              </a:rPr>
              <a:t>P</a:t>
            </a:r>
            <a:r>
              <a:rPr b="1" lang="it-IT" sz="4000" spc="-1" strike="noStrike">
                <a:solidFill>
                  <a:srgbClr val="00ff00"/>
                </a:solidFill>
                <a:latin typeface="Comic Sans MS"/>
              </a:rPr>
              <a:t>A</a:t>
            </a:r>
            <a:r>
              <a:rPr b="1" lang="it-IT" sz="40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it-IT" sz="4000" spc="-1" strike="noStrike">
                <a:solidFill>
                  <a:srgbClr val="3366ff"/>
                </a:solidFill>
                <a:latin typeface="Comic Sans MS"/>
              </a:rPr>
              <a:t>N</a:t>
            </a:r>
            <a:r>
              <a:rPr b="1" lang="it-IT" sz="4000" spc="-1" strike="noStrike">
                <a:solidFill>
                  <a:srgbClr val="ff9933"/>
                </a:solidFill>
                <a:latin typeface="Comic Sans MS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dcff"/>
                </a:solidFill>
                <a:latin typeface="Times New Roman"/>
                <a:ea typeface="Times New Roman"/>
              </a:rPr>
              <a:t>L'</a:t>
            </a:r>
            <a:r>
              <a:rPr b="1" lang="it-IT" sz="2000" spc="-1" strike="noStrike">
                <a:solidFill>
                  <a:srgbClr val="2300dc"/>
                </a:solidFill>
                <a:latin typeface="Times New Roman"/>
                <a:ea typeface="Times New Roman"/>
              </a:rPr>
              <a:t>E</a:t>
            </a:r>
            <a:r>
              <a:rPr b="1" lang="it-IT" sz="2000" spc="-1" strike="noStrike">
                <a:solidFill>
                  <a:srgbClr val="3deb3d"/>
                </a:solidFill>
                <a:latin typeface="Times New Roman"/>
                <a:ea typeface="Times New Roman"/>
              </a:rPr>
              <a:t>LEFANTE </a:t>
            </a:r>
            <a:r>
              <a:rPr b="1" lang="it-IT" sz="2000" spc="-1" strike="noStrike">
                <a:solidFill>
                  <a:srgbClr val="ff3333"/>
                </a:solidFill>
                <a:latin typeface="Times New Roman"/>
                <a:ea typeface="Times New Roman"/>
              </a:rPr>
              <a:t>SUONAVA </a:t>
            </a:r>
            <a:r>
              <a:rPr b="1" lang="it-IT" sz="2000" spc="-1" strike="noStrike">
                <a:solidFill>
                  <a:srgbClr val="b84747"/>
                </a:solidFill>
                <a:latin typeface="Times New Roman"/>
                <a:ea typeface="Times New Roman"/>
              </a:rPr>
              <a:t>L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e6e64c"/>
                </a:solidFill>
                <a:latin typeface="Times New Roman"/>
                <a:ea typeface="Times New Roman"/>
              </a:rPr>
              <a:t>TROMB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1" lang="it-IT" sz="2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DISTURBANDO </a:t>
            </a:r>
            <a:r>
              <a:rPr b="1" lang="it-IT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L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OCCODRILLO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DOARDO         1°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1452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324080" y="1981080"/>
          <a:ext cx="64958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4080" y="1981080"/>
                    <a:ext cx="64958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66"/>
                </a:solidFill>
                <a:latin typeface="Georgia"/>
                <a:ea typeface="Times New Roman"/>
              </a:rPr>
              <a:t>IL COCCODRILLO HA SPAVENTATO</a:t>
            </a:r>
            <a:br>
              <a:rPr sz="2000"/>
            </a:br>
            <a:r>
              <a:rPr b="1" lang="it-IT" sz="2000" spc="-1" strike="noStrike">
                <a:solidFill>
                  <a:srgbClr val="ff3366"/>
                </a:solidFill>
                <a:latin typeface="Georgia"/>
                <a:ea typeface="Times New Roman"/>
              </a:rPr>
              <a:t>L' ELEFANTE CON IL TRAPANO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1" lang="it-IT" sz="2000" spc="-1" strike="noStrike">
                <a:solidFill>
                  <a:srgbClr val="ff3366"/>
                </a:solidFill>
                <a:latin typeface="Georgia"/>
                <a:ea typeface="Times New Roman"/>
              </a:rPr>
              <a:t>EMANUEL      1°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1452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990720" y="2362320"/>
          <a:ext cx="70196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362320"/>
                    <a:ext cx="70196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966cc"/>
                </a:solidFill>
                <a:latin typeface="Comic Sans MS"/>
                <a:ea typeface="Times New Roman"/>
              </a:rPr>
              <a:t>L'ELEFANTE E IL COCCODRILO LITIGAN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9966cc"/>
                </a:solidFill>
                <a:latin typeface="Comic Sans MS"/>
                <a:ea typeface="Times New Roman"/>
              </a:rPr>
              <a:t>PERCHE' A ENTRAMBI NON PIACE LA MUSICA CHE SUONA L ' ALTRO, COSI' NON VANNO D'ACCORDO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1" lang="it-IT" sz="2000" spc="-1" strike="noStrike">
                <a:solidFill>
                  <a:srgbClr val="9966cc"/>
                </a:solidFill>
                <a:latin typeface="Comic Sans MS"/>
                <a:ea typeface="Times New Roman"/>
              </a:rPr>
              <a:t>FRANCESCA    1°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1452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143000" y="2438280"/>
          <a:ext cx="70261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438280"/>
                    <a:ext cx="7026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33"/>
                </a:solidFill>
                <a:latin typeface="Microsoft Sans Serif"/>
                <a:ea typeface="Microsoft Sans Serif"/>
              </a:rPr>
              <a:t>IL LUPO MANGIA LA PASTORELL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RENZO      1° 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452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066680" y="2362320"/>
          <a:ext cx="70297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362320"/>
                    <a:ext cx="7029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ff"/>
                </a:solidFill>
                <a:latin typeface="Arial Black"/>
                <a:ea typeface="Times New Roman"/>
              </a:rPr>
              <a:t>I CAMALEONTI CAMBIANO COLORE PER NON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it-IT" sz="2000" spc="-1" strike="noStrike">
                <a:solidFill>
                  <a:srgbClr val="ff00ff"/>
                </a:solidFill>
                <a:latin typeface="Arial Black"/>
                <a:ea typeface="Times New Roman"/>
              </a:rPr>
              <a:t>FARSI MANGIARE DAGLI UCCELLI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1" lang="it-IT" sz="2000" spc="-1" strike="noStrike">
                <a:solidFill>
                  <a:srgbClr val="ff00ff"/>
                </a:solidFill>
                <a:latin typeface="Arial Black"/>
                <a:ea typeface="Times New Roman"/>
              </a:rPr>
              <a:t>LUVI ELEONORA       1°A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1452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295280" y="2362320"/>
          <a:ext cx="67946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62320"/>
                    <a:ext cx="67946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8080"/>
                </a:solidFill>
                <a:latin typeface="Lucida Console"/>
                <a:ea typeface="Times New Roman"/>
              </a:rPr>
              <a:t>I CAMALENOTI SI ERANO PITTURATI CON LA TEMPERA MA LA PIOGGIA ERA TROPPO FORTE E COSI'SONO RIDIVENTATI TUTTI ROSSI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0" lang="it-IT" sz="2000" spc="-1" strike="noStrike">
                <a:solidFill>
                  <a:srgbClr val="008080"/>
                </a:solidFill>
                <a:latin typeface="Lucida Console"/>
                <a:ea typeface="Times New Roman"/>
              </a:rPr>
              <a:t>LYSA     1°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1452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909720" y="1981080"/>
          <a:ext cx="73231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9720" y="1981080"/>
                    <a:ext cx="7323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  <a:ea typeface="Arial"/>
              </a:rPr>
              <a:t>IL COCCODRILLO SUONA IL VIOLINO E DISTURBA L'ELEFANTE. </a:t>
            </a:r>
            <a:br>
              <a:rPr sz="2000"/>
            </a:br>
            <a:r>
              <a:rPr b="1" lang="it-IT" sz="2000" spc="-1" strike="noStrike">
                <a:solidFill>
                  <a:srgbClr val="0000ff"/>
                </a:solidFill>
                <a:latin typeface="Arial"/>
                <a:ea typeface="Arial"/>
              </a:rPr>
              <a:t>DOPO DIVENTANO GRANDI AMICI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1" lang="it-IT" sz="2000" spc="-1" strike="noStrike">
                <a:solidFill>
                  <a:srgbClr val="0000ff"/>
                </a:solidFill>
                <a:latin typeface="Arial"/>
                <a:ea typeface="Arial"/>
              </a:rPr>
              <a:t>MICHELA 1°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1452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219320" y="2362320"/>
          <a:ext cx="7091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62320"/>
                    <a:ext cx="7091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3ff23"/>
                </a:solidFill>
                <a:latin typeface="Impact"/>
                <a:ea typeface="Times New Roman"/>
              </a:rPr>
              <a:t>HO DISEGNATO IL COCCODRILLO E L'ELEANTE CHE SI GUARDAVANO PERCHE' ERA CADUTO IL MURO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1" lang="it-IT" sz="2000" spc="-1" strike="noStrike">
                <a:solidFill>
                  <a:srgbClr val="23ff23"/>
                </a:solidFill>
                <a:latin typeface="Impact"/>
                <a:ea typeface="Times New Roman"/>
              </a:rPr>
              <a:t>NICOLO'  1°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1452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990720" y="2438280"/>
          <a:ext cx="73231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438280"/>
                    <a:ext cx="7323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ff"/>
                </a:solidFill>
                <a:latin typeface="Georgia"/>
                <a:ea typeface="Times New Roman"/>
              </a:rPr>
              <a:t>E' LA SCENA DELL'ELEFANTE E DEL COCCODRILLO CHE HANNO LITIGATO PERCHE' FACEVANO TROPPO RUMORE.</a:t>
            </a:r>
            <a:br>
              <a:rPr sz="1800"/>
            </a:br>
            <a:r>
              <a:rPr b="1" lang="it-IT" sz="1800" spc="-1" strike="noStrike">
                <a:solidFill>
                  <a:srgbClr val="ff00ff"/>
                </a:solidFill>
                <a:latin typeface="Georgia"/>
                <a:ea typeface="Times New Roman"/>
              </a:rPr>
              <a:t>POI HANNO F ATTO PACE E ADESSO SUONANO INSIEME.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800"/>
            </a:br>
            <a:r>
              <a:rPr b="1" lang="it-IT" sz="1800" spc="-1" strike="noStrike">
                <a:solidFill>
                  <a:srgbClr val="ff00ff"/>
                </a:solidFill>
                <a:latin typeface="Georgia"/>
                <a:ea typeface="Times New Roman"/>
              </a:rPr>
              <a:t>NORA  1°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1452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09720" y="1981080"/>
          <a:ext cx="73231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9720" y="1981080"/>
                    <a:ext cx="7323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L' ELEFANTE SUONA LA TROMBA E DISTURBA IL COCCODRILLO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1" lang="it-IT" sz="2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RICCARDO  </a:t>
            </a:r>
            <a:r>
              <a:rPr b="1" lang="it-IT" sz="2000" spc="-1" strike="noStrike">
                <a:solidFill>
                  <a:srgbClr val="ff00ff"/>
                </a:solidFill>
                <a:latin typeface="Times New Roman"/>
                <a:ea typeface="Arial"/>
              </a:rPr>
              <a:t>1°A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14520" y="14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312920" y="1981080"/>
          <a:ext cx="65167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2920" y="1981080"/>
                    <a:ext cx="6516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ff"/>
                </a:solidFill>
                <a:latin typeface="Comic Sans MS"/>
              </a:rPr>
              <a:t>RIPRODUCIAMO, CON IL PROGRAMMA PAINT, LE STORIE CHE ABBIAMO ASCOLTATO NELL’AMBITO DEL “PROGETTO BIBLIOTECA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590560"/>
            <a:ext cx="6400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0066"/>
                </a:solidFill>
                <a:latin typeface="Comic Sans MS"/>
              </a:rPr>
              <a:t>ALTAN FRANCESCO TULLIO - KAMILLO KROMO- EINAUDI RAGAZZ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cc99"/>
                </a:solidFill>
                <a:latin typeface="Comic Sans MS"/>
              </a:rPr>
              <a:t>LECAYE ALEXIS- AHAMM!TI MANGIO!- MONDAD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33"/>
                </a:solidFill>
                <a:latin typeface="Comic Sans MS"/>
              </a:rPr>
              <a:t>VELTHIJUS MAX – TROPPO RUMORE - A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80099"/>
                </a:solidFill>
                <a:latin typeface="Mangal"/>
                <a:ea typeface="Times New Roman"/>
              </a:rPr>
              <a:t>IL MIO DISEGNO E' QUANDO L'ELEFANTE HA SUONATO PER LA PRIMA VOLTA LA TROMBA E IL COCCODRILLO E' ANDATO A LAMENTARSI DA LUI.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it-IT" sz="1800" spc="-1" strike="noStrike">
                <a:solidFill>
                  <a:srgbClr val="280099"/>
                </a:solidFill>
                <a:latin typeface="Mangal"/>
                <a:ea typeface="Times New Roman"/>
              </a:rPr>
              <a:t>L'ELEFANTE GLI RISPONDE: </a:t>
            </a:r>
            <a:br>
              <a:rPr sz="1800"/>
            </a:br>
            <a:r>
              <a:rPr b="1" lang="it-IT" sz="1800" spc="-1" strike="noStrike">
                <a:solidFill>
                  <a:srgbClr val="280099"/>
                </a:solidFill>
                <a:latin typeface="Mangal"/>
                <a:ea typeface="Times New Roman"/>
              </a:rPr>
              <a:t>-NON POSSO VIVERE SENZA LA MIA MUSICA !.- </a:t>
            </a:r>
            <a:br>
              <a:rPr sz="1800"/>
            </a:br>
            <a:r>
              <a:rPr b="1" lang="it-IT" sz="1800" spc="-1" strike="noStrike">
                <a:solidFill>
                  <a:srgbClr val="280099"/>
                </a:solidFill>
                <a:latin typeface="Mangal"/>
                <a:ea typeface="Times New Roman"/>
              </a:rPr>
              <a:t>COSI' IL COCCODRILLO TORNO' A CASA DELUSO.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it-IT" sz="1800" spc="-1" strike="noStrike">
                <a:solidFill>
                  <a:srgbClr val="280099"/>
                </a:solidFill>
                <a:latin typeface="Mangal"/>
                <a:ea typeface="Times New Roman"/>
              </a:rPr>
              <a:t>SEBASTIANO  1</a:t>
            </a:r>
            <a:r>
              <a:rPr b="1" lang="it-IT" sz="1800" spc="-1" strike="noStrike">
                <a:solidFill>
                  <a:srgbClr val="280099"/>
                </a:solidFill>
                <a:latin typeface="Arial"/>
                <a:ea typeface="Arial"/>
              </a:rPr>
              <a:t>°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14520" y="141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47920" y="2362320"/>
          <a:ext cx="62611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362320"/>
                    <a:ext cx="6261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cccc"/>
                </a:solidFill>
                <a:latin typeface="Bitstream Vera Sans"/>
                <a:ea typeface="Times New Roman"/>
              </a:rPr>
              <a:t>IL COCCODRILLO E L'ELEFANTE SUONANO INSIEME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1" lang="it-IT" sz="2000" spc="-1" strike="noStrike">
                <a:solidFill>
                  <a:srgbClr val="00cccc"/>
                </a:solidFill>
                <a:latin typeface="Bitstream Vera Sans"/>
                <a:ea typeface="Times New Roman"/>
              </a:rPr>
              <a:t>SWAMI  1°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1452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36640" y="1981080"/>
          <a:ext cx="74707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6640" y="1981080"/>
                    <a:ext cx="7470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L LUPO VOLEVA MANGIARE</a:t>
            </a:r>
            <a:br>
              <a:rPr sz="2000"/>
            </a:br>
            <a:r>
              <a:rPr b="0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 PASTORELLA E NON LE PECORE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ESSANDRO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°A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14520" y="14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317600" y="1981080"/>
          <a:ext cx="65088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7600" y="1981080"/>
                    <a:ext cx="6508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ff"/>
                </a:solidFill>
                <a:latin typeface="Comic Sans MS"/>
                <a:ea typeface="Times New Roman"/>
              </a:rPr>
              <a:t>L'ELEFANTE VA A PRENDERE LA TROMBA </a:t>
            </a:r>
            <a:br>
              <a:rPr sz="2000"/>
            </a:br>
            <a:r>
              <a:rPr b="0" lang="it-IT" sz="2000" spc="-1" strike="noStrike">
                <a:solidFill>
                  <a:srgbClr val="ff00ff"/>
                </a:solidFill>
                <a:latin typeface="Comic Sans MS"/>
                <a:ea typeface="Times New Roman"/>
              </a:rPr>
              <a:t>DAL LEONE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0" lang="it-IT" sz="2000" spc="-1" strike="noStrike">
                <a:solidFill>
                  <a:srgbClr val="ff00ff"/>
                </a:solidFill>
                <a:latin typeface="Comic Sans MS"/>
                <a:ea typeface="Times New Roman"/>
              </a:rPr>
              <a:t>ALICE     1°A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1452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255680" y="1981080"/>
          <a:ext cx="66326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5680" y="1981080"/>
                    <a:ext cx="66326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Impact"/>
                <a:ea typeface="Times New Roman"/>
              </a:rPr>
              <a:t>E' QUANDO I CAMALEONTI SI SONO NASCOSTi </a:t>
            </a:r>
            <a:br>
              <a:rPr sz="2000"/>
            </a:br>
            <a:r>
              <a:rPr b="1" lang="it-IT" sz="2000" spc="-1" strike="noStrike">
                <a:solidFill>
                  <a:srgbClr val="ff0000"/>
                </a:solidFill>
                <a:latin typeface="Impact"/>
                <a:ea typeface="Times New Roman"/>
              </a:rPr>
              <a:t>PERCHE' AVEVANO PAURA DEGLI UCCELLI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1" lang="it-IT" sz="2000" spc="-1" strike="noStrike">
                <a:solidFill>
                  <a:srgbClr val="ff0000"/>
                </a:solidFill>
                <a:latin typeface="Impact"/>
                <a:ea typeface="Times New Roman"/>
              </a:rPr>
              <a:t>ANDREA D. G.         1°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1452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36640" y="1981080"/>
          <a:ext cx="74707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6640" y="1981080"/>
                    <a:ext cx="7470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323dc"/>
                </a:solidFill>
                <a:latin typeface="Arial Black"/>
                <a:ea typeface="Times New Roman"/>
              </a:rPr>
              <a:t>IL LEONE DA' ALL' ELEFANTE UNA TROMBA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1" lang="it-IT" sz="2000" spc="-1" strike="noStrike">
                <a:solidFill>
                  <a:srgbClr val="2323dc"/>
                </a:solidFill>
                <a:latin typeface="Arial Black"/>
                <a:ea typeface="Times New Roman"/>
              </a:rPr>
              <a:t>ANDREA F.     1°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1452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025640" y="1981080"/>
          <a:ext cx="7091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5640" y="1981080"/>
                    <a:ext cx="7091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L'ELEFANTE SUONA LA TROMBA E DISTURBA IL COCCODRILLO CHE VUOLE SUONARE IL VIOLINO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0" lang="it-IT" sz="20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BARBARA      1°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14520" y="16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036800" y="1981080"/>
          <a:ext cx="7068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6800" y="1981080"/>
                    <a:ext cx="7068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33"/>
                </a:solidFill>
                <a:latin typeface="Comic Sans MS"/>
                <a:ea typeface="Times New Roman"/>
              </a:rPr>
              <a:t>L' ELEFANTE CORRE FUORI CASA PER COMPRARE UNA TROMBA , QUANDO TORNA E' FELICISSIMO DELLA SUA TROMBA, MA SENTE UN RUMORE PROVENIRE DALLA CASA VICINA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0" lang="it-IT" sz="2000" spc="-1" strike="noStrike">
                <a:solidFill>
                  <a:srgbClr val="ff3333"/>
                </a:solidFill>
                <a:latin typeface="Comic Sans MS"/>
                <a:ea typeface="Times New Roman"/>
              </a:rPr>
              <a:t>DAVIDE B. 1°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1452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990720" y="2438280"/>
          <a:ext cx="7091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438280"/>
                    <a:ext cx="7091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300dc"/>
                </a:solidFill>
                <a:latin typeface="Comic Sans MS"/>
                <a:ea typeface="Times New Roman"/>
              </a:rPr>
              <a:t>IL MAESTRO, CHE ERA L'UNICO DI COLORE ROSSO, VIENE CATTURATO, MENTRE GLI ALTRI CAMALEONTI  NO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it-IT" sz="2000" spc="-1" strike="noStrike">
                <a:solidFill>
                  <a:srgbClr val="eb613d"/>
                </a:solidFill>
                <a:latin typeface="Comic Sans MS"/>
                <a:ea typeface="Times New Roman"/>
              </a:rPr>
              <a:t>DAVIDE C.          1°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062000" y="1981080"/>
          <a:ext cx="70200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1981080"/>
                    <a:ext cx="7020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tente</cp:lastModifiedBy>
  <dcterms:modified xsi:type="dcterms:W3CDTF">2007-05-10T21:39:22Z</dcterms:modified>
  <cp:revision>16</cp:revision>
  <dc:subject/>
  <dc:title>PowerPoint Presentation</dc:title>
</cp:coreProperties>
</file>