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1EE-8F30-4D6C-992D-E8C698B4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E87-76E4-41A8-91CC-0A001C67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FDE-595B-454E-97A1-D1EB324F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C9A-073E-48DF-A526-B3ECBBC4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6CB-1761-4796-A5E0-B71E6B5A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54E-5FA8-47FB-BC2B-A208ED56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842-D2E6-4498-8F96-7E1E9E98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43A-80EA-4E01-B7B8-864E9E63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AE7-42D2-4F7B-BA4B-4B0BAE50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9A8-41DE-4AE2-8DCB-B76A572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1C7-7A40-4375-A14C-F58F2776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7D3-C7B1-44F5-BBF1-F4E7AE0D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59C2-F1A1-408B-89C5-6037BA5325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4d9a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CLASSE 1°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RIPRODURRE LE STORIE CON </a:t>
            </a:r>
            <a:r>
              <a:rPr b="1" lang="it-IT" sz="4000" spc="-1" strike="noStrike">
                <a:solidFill>
                  <a:srgbClr val="ff0066"/>
                </a:solidFill>
                <a:latin typeface="Comic Sans MS"/>
              </a:rPr>
              <a:t>P</a:t>
            </a:r>
            <a:r>
              <a:rPr b="1" lang="it-IT" sz="40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1" lang="it-IT" sz="40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it-IT" sz="4000" spc="-1" strike="noStrike">
                <a:solidFill>
                  <a:srgbClr val="3366ff"/>
                </a:solidFill>
                <a:latin typeface="Comic Sans MS"/>
              </a:rPr>
              <a:t>N</a:t>
            </a:r>
            <a:r>
              <a:rPr b="1" lang="it-IT" sz="4000" spc="-1" strike="noStrike">
                <a:solidFill>
                  <a:srgbClr val="ff9933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dcff"/>
                </a:solidFill>
                <a:latin typeface="Times New Roman"/>
                <a:ea typeface="Times New Roman"/>
              </a:rPr>
              <a:t>L'</a:t>
            </a:r>
            <a:r>
              <a:rPr b="1" lang="it-IT" sz="2000" spc="-1" strike="noStrike">
                <a:solidFill>
                  <a:srgbClr val="2300dc"/>
                </a:solidFill>
                <a:latin typeface="Times New Roman"/>
                <a:ea typeface="Times New Roman"/>
              </a:rPr>
              <a:t>E</a:t>
            </a:r>
            <a:r>
              <a:rPr b="1" lang="it-IT" sz="2000" spc="-1" strike="noStrike">
                <a:solidFill>
                  <a:srgbClr val="3deb3d"/>
                </a:solidFill>
                <a:latin typeface="Times New Roman"/>
                <a:ea typeface="Times New Roman"/>
              </a:rPr>
              <a:t>LEFANTE </a:t>
            </a:r>
            <a:r>
              <a:rPr b="1" lang="it-IT" sz="2000" spc="-1" strike="noStrike">
                <a:solidFill>
                  <a:srgbClr val="ff3333"/>
                </a:solidFill>
                <a:latin typeface="Times New Roman"/>
                <a:ea typeface="Times New Roman"/>
              </a:rPr>
              <a:t>SUONAVA </a:t>
            </a:r>
            <a:r>
              <a:rPr b="1" lang="it-IT" sz="2000" spc="-1" strike="noStrike">
                <a:solidFill>
                  <a:srgbClr val="b84747"/>
                </a:solidFill>
                <a:latin typeface="Times New Roman"/>
                <a:ea typeface="Times New Roman"/>
              </a:rPr>
              <a:t>L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e6e64c"/>
                </a:solidFill>
                <a:latin typeface="Times New Roman"/>
                <a:ea typeface="Times New Roman"/>
              </a:rPr>
              <a:t>TROMB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DISTURBANDO 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L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CCODRILL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OARDO       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1452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324080" y="1981080"/>
          <a:ext cx="6495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4080" y="1981080"/>
                    <a:ext cx="6495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66"/>
                </a:solidFill>
                <a:latin typeface="Georgia"/>
                <a:ea typeface="Times New Roman"/>
              </a:rPr>
              <a:t>IL COCCODRILLO HA SPAVENTATO</a:t>
            </a:r>
            <a:br>
              <a:rPr sz="2000"/>
            </a:br>
            <a:r>
              <a:rPr b="1" lang="it-IT" sz="2000" spc="-1" strike="noStrike">
                <a:solidFill>
                  <a:srgbClr val="ff3366"/>
                </a:solidFill>
                <a:latin typeface="Georgia"/>
                <a:ea typeface="Times New Roman"/>
              </a:rPr>
              <a:t>L' ELEFANTE CON IL TRAPAN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ff3366"/>
                </a:solidFill>
                <a:latin typeface="Georgia"/>
                <a:ea typeface="Times New Roman"/>
              </a:rPr>
              <a:t>EMANUEL      1°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1452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2362320"/>
          <a:ext cx="7019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7019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66cc"/>
                </a:solidFill>
                <a:latin typeface="Comic Sans MS"/>
                <a:ea typeface="Times New Roman"/>
              </a:rPr>
              <a:t>L'ELEFANTE E IL COCCODRILO LITIGA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9966cc"/>
                </a:solidFill>
                <a:latin typeface="Comic Sans MS"/>
                <a:ea typeface="Times New Roman"/>
              </a:rPr>
              <a:t>PERCHE' A ENTRAMBI NON PIACE LA MUSICA CHE SUONA L ' ALTRO, COSI' NON VANNO D'ACCORD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9966cc"/>
                </a:solidFill>
                <a:latin typeface="Comic Sans MS"/>
                <a:ea typeface="Times New Roman"/>
              </a:rPr>
              <a:t>FRANCESCA  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1452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43000" y="2438280"/>
          <a:ext cx="7026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438280"/>
                    <a:ext cx="7026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33"/>
                </a:solidFill>
                <a:latin typeface="Microsoft Sans Serif"/>
                <a:ea typeface="Microsoft Sans Serif"/>
              </a:rPr>
              <a:t>IL LUPO MANGIA LA PASTORELL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RENZO      1° 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452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66680" y="2362320"/>
          <a:ext cx="7029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362320"/>
                    <a:ext cx="7029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ff"/>
                </a:solidFill>
                <a:latin typeface="Arial Black"/>
                <a:ea typeface="Times New Roman"/>
              </a:rPr>
              <a:t>I CAMALEONTI CAMBIANO COLORE PER NO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it-IT" sz="2000" spc="-1" strike="noStrike">
                <a:solidFill>
                  <a:srgbClr val="ff00ff"/>
                </a:solidFill>
                <a:latin typeface="Arial Black"/>
                <a:ea typeface="Times New Roman"/>
              </a:rPr>
              <a:t>FARSI MANGIARE DAGLI UCCELL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ff00ff"/>
                </a:solidFill>
                <a:latin typeface="Arial Black"/>
                <a:ea typeface="Times New Roman"/>
              </a:rPr>
              <a:t>LUVI ELEONORA       1°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145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295280" y="2362320"/>
          <a:ext cx="6794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794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80"/>
                </a:solidFill>
                <a:latin typeface="Lucida Console"/>
                <a:ea typeface="Times New Roman"/>
              </a:rPr>
              <a:t>I CAMALENOTI SI ERANO PITTURATI CON LA TEMPERA MA LA PIOGGIA ERA TROPPO FORTE E COSI'SONO RIDIVENTATI TUTTI ROSS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it-IT" sz="2000" spc="-1" strike="noStrike">
                <a:solidFill>
                  <a:srgbClr val="008080"/>
                </a:solidFill>
                <a:latin typeface="Lucida Console"/>
                <a:ea typeface="Times New Roman"/>
              </a:rPr>
              <a:t>LYSA   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1452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09720" y="1981080"/>
          <a:ext cx="7323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81080"/>
                    <a:ext cx="732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IL COCCODRILLO SUONA IL VIOLINO E DISTURBA L'ELEFANTE. </a:t>
            </a:r>
            <a:br>
              <a:rPr sz="2000"/>
            </a:b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DOPO DIVENTANO GRANDI AMIC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MICHELA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145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19320" y="2362320"/>
          <a:ext cx="70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70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3ff23"/>
                </a:solidFill>
                <a:latin typeface="Impact"/>
                <a:ea typeface="Times New Roman"/>
              </a:rPr>
              <a:t>HO DISEGNATO IL COCCODRILLO E L'ELEANTE CHE SI GUARDAVANO PERCHE' ERA CADUTO IL MUR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23ff23"/>
                </a:solidFill>
                <a:latin typeface="Impact"/>
                <a:ea typeface="Times New Roman"/>
              </a:rPr>
              <a:t>NICOLO'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1452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90720" y="2438280"/>
          <a:ext cx="7323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732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ff"/>
                </a:solidFill>
                <a:latin typeface="Georgia"/>
                <a:ea typeface="Times New Roman"/>
              </a:rPr>
              <a:t>E' LA SCENA DELL'ELEFANTE E DEL COCCODRILLO CHE HANNO LITIGATO PERCHE' FACEVANO TROPPO RUMORE.</a:t>
            </a:r>
            <a:br>
              <a:rPr sz="1800"/>
            </a:br>
            <a:r>
              <a:rPr b="1" lang="it-IT" sz="1800" spc="-1" strike="noStrike">
                <a:solidFill>
                  <a:srgbClr val="ff00ff"/>
                </a:solidFill>
                <a:latin typeface="Georgia"/>
                <a:ea typeface="Times New Roman"/>
              </a:rPr>
              <a:t>POI HANNO F ATTO PACE E ADESSO SUONANO INSIEME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r>
              <a:rPr b="1" lang="it-IT" sz="1800" spc="-1" strike="noStrike">
                <a:solidFill>
                  <a:srgbClr val="ff00ff"/>
                </a:solidFill>
                <a:latin typeface="Georgia"/>
                <a:ea typeface="Times New Roman"/>
              </a:rPr>
              <a:t>NORA  1°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1452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09720" y="1981080"/>
          <a:ext cx="7323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81080"/>
                    <a:ext cx="732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L' ELEFANTE SUONA LA TROMBA E DISTURBA IL COCCODRILL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RICCARDO  </a:t>
            </a:r>
            <a:r>
              <a:rPr b="1" lang="it-IT" sz="2000" spc="-1" strike="noStrike">
                <a:solidFill>
                  <a:srgbClr val="ff00ff"/>
                </a:solidFill>
                <a:latin typeface="Times New Roman"/>
                <a:ea typeface="Arial"/>
              </a:rPr>
              <a:t>1°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1452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312920" y="1981080"/>
          <a:ext cx="6516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1981080"/>
                    <a:ext cx="6516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ff"/>
                </a:solidFill>
                <a:latin typeface="Comic Sans MS"/>
              </a:rPr>
              <a:t>RIPRODUCIAMO, CON IL PROGRAMMA PAINT, LE STORIE CHE ABBIAMO ASCOLTATO NELL’AMBITO DEL “PROGETTO BIBLIOTECA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66"/>
                </a:solidFill>
                <a:latin typeface="Comic Sans MS"/>
              </a:rPr>
              <a:t>ALTAN FRANCESCO TULLIO - KAMILLO KROMO- EINAUDI RAGAZ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cc99"/>
                </a:solidFill>
                <a:latin typeface="Comic Sans MS"/>
              </a:rPr>
              <a:t>LECAYE ALEXIS- AHAMM!TI MANGIO!- MONDAD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33"/>
                </a:solidFill>
                <a:latin typeface="Comic Sans MS"/>
              </a:rPr>
              <a:t>VELTHIJUS MAX – TROPPO RUMORE - A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80099"/>
                </a:solidFill>
                <a:latin typeface="Mangal"/>
                <a:ea typeface="Times New Roman"/>
              </a:rPr>
              <a:t>IL MIO DISEGNO E' QUANDO L'ELEFANTE HA SUONATO PER LA PRIMA VOLTA LA TROMBA E IL COCCODRILLO E' ANDATO A LAMENTARSI DA LUI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it-IT" sz="1800" spc="-1" strike="noStrike">
                <a:solidFill>
                  <a:srgbClr val="280099"/>
                </a:solidFill>
                <a:latin typeface="Mangal"/>
                <a:ea typeface="Times New Roman"/>
              </a:rPr>
              <a:t>L'ELEFANTE GLI RISPONDE: </a:t>
            </a:r>
            <a:br>
              <a:rPr sz="1800"/>
            </a:br>
            <a:r>
              <a:rPr b="1" lang="it-IT" sz="1800" spc="-1" strike="noStrike">
                <a:solidFill>
                  <a:srgbClr val="280099"/>
                </a:solidFill>
                <a:latin typeface="Mangal"/>
                <a:ea typeface="Times New Roman"/>
              </a:rPr>
              <a:t>-NON POSSO VIVERE SENZA LA MIA MUSICA !.- </a:t>
            </a:r>
            <a:br>
              <a:rPr sz="1800"/>
            </a:br>
            <a:r>
              <a:rPr b="1" lang="it-IT" sz="1800" spc="-1" strike="noStrike">
                <a:solidFill>
                  <a:srgbClr val="280099"/>
                </a:solidFill>
                <a:latin typeface="Mangal"/>
                <a:ea typeface="Times New Roman"/>
              </a:rPr>
              <a:t>COSI' IL COCCODRILLO TORNO' A CASA DELUSO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it-IT" sz="1800" spc="-1" strike="noStrike">
                <a:solidFill>
                  <a:srgbClr val="280099"/>
                </a:solidFill>
                <a:latin typeface="Mangal"/>
                <a:ea typeface="Times New Roman"/>
              </a:rPr>
              <a:t>SEBASTIANO  1</a:t>
            </a:r>
            <a:r>
              <a:rPr b="1" lang="it-IT" sz="1800" spc="-1" strike="noStrike">
                <a:solidFill>
                  <a:srgbClr val="280099"/>
                </a:solidFill>
                <a:latin typeface="Arial"/>
                <a:ea typeface="Arial"/>
              </a:rPr>
              <a:t>°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1452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2362320"/>
          <a:ext cx="6261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6261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cccc"/>
                </a:solidFill>
                <a:latin typeface="Bitstream Vera Sans"/>
                <a:ea typeface="Times New Roman"/>
              </a:rPr>
              <a:t>IL COCCODRILLO E L'ELEFANTE SUONANO INSIEM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00cccc"/>
                </a:solidFill>
                <a:latin typeface="Bitstream Vera Sans"/>
                <a:ea typeface="Times New Roman"/>
              </a:rPr>
              <a:t>SWAMI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1452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6640" y="1981080"/>
          <a:ext cx="7470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981080"/>
                    <a:ext cx="7470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L LUPO VOLEVA MANGIARE</a:t>
            </a:r>
            <a:br>
              <a:rPr sz="2000"/>
            </a:b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PASTORELLA E NON LE PECORE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ESSANDR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°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52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17600" y="1981080"/>
          <a:ext cx="6508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0" y="1981080"/>
                    <a:ext cx="6508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L'ELEFANTE VA A PRENDERE LA TROMBA </a:t>
            </a:r>
            <a:br>
              <a:rPr sz="2000"/>
            </a:br>
            <a:r>
              <a:rPr b="0" lang="it-IT" sz="2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DAL LEON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it-IT" sz="2000" spc="-1" strike="noStrike">
                <a:solidFill>
                  <a:srgbClr val="ff00ff"/>
                </a:solidFill>
                <a:latin typeface="Comic Sans MS"/>
                <a:ea typeface="Times New Roman"/>
              </a:rPr>
              <a:t>ALICE     1°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1452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55680" y="1981080"/>
          <a:ext cx="6632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1981080"/>
                    <a:ext cx="6632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Impact"/>
                <a:ea typeface="Times New Roman"/>
              </a:rPr>
              <a:t>E' QUANDO I CAMALEONTI SI SONO NASCOSTi </a:t>
            </a:r>
            <a:br>
              <a:rPr sz="2000"/>
            </a:br>
            <a:r>
              <a:rPr b="1" lang="it-IT" sz="2000" spc="-1" strike="noStrike">
                <a:solidFill>
                  <a:srgbClr val="ff0000"/>
                </a:solidFill>
                <a:latin typeface="Impact"/>
                <a:ea typeface="Times New Roman"/>
              </a:rPr>
              <a:t>PERCHE' AVEVANO PAURA DEGLI UCCELL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ff0000"/>
                </a:solidFill>
                <a:latin typeface="Impact"/>
                <a:ea typeface="Times New Roman"/>
              </a:rPr>
              <a:t>ANDREA D. G.         1°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1452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6640" y="1981080"/>
          <a:ext cx="7470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981080"/>
                    <a:ext cx="7470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323dc"/>
                </a:solidFill>
                <a:latin typeface="Arial Black"/>
                <a:ea typeface="Times New Roman"/>
              </a:rPr>
              <a:t>IL LEONE DA' ALL' ELEFANTE UNA TROMB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1" lang="it-IT" sz="2000" spc="-1" strike="noStrike">
                <a:solidFill>
                  <a:srgbClr val="2323dc"/>
                </a:solidFill>
                <a:latin typeface="Arial Black"/>
                <a:ea typeface="Times New Roman"/>
              </a:rPr>
              <a:t>ANDREA F.   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145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25640" y="1981080"/>
          <a:ext cx="70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981080"/>
                    <a:ext cx="70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L'ELEFANTE SUONA LA TROMBA E DISTURBA IL COCCODRILLO CHE VUOLE SUONARE IL VIOLIN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it-IT" sz="20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BARBARA    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1452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36800" y="1981080"/>
          <a:ext cx="7068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1981080"/>
                    <a:ext cx="7068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33"/>
                </a:solidFill>
                <a:latin typeface="Comic Sans MS"/>
                <a:ea typeface="Times New Roman"/>
              </a:rPr>
              <a:t>L' ELEFANTE CORRE FUORI CASA PER COMPRARE UNA TROMBA , QUANDO TORNA E' FELICISSIMO DELLA SUA TROMBA, MA SENTE UN RUMORE PROVENIRE DALLA CASA VICINA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it-IT" sz="2000" spc="-1" strike="noStrike">
                <a:solidFill>
                  <a:srgbClr val="ff3333"/>
                </a:solidFill>
                <a:latin typeface="Comic Sans MS"/>
                <a:ea typeface="Times New Roman"/>
              </a:rPr>
              <a:t>DAVIDE B.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145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2438280"/>
          <a:ext cx="70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70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300dc"/>
                </a:solidFill>
                <a:latin typeface="Comic Sans MS"/>
                <a:ea typeface="Times New Roman"/>
              </a:rPr>
              <a:t>IL MAESTRO, CHE ERA L'UNICO DI COLORE ROSSO, VIENE CATTURATO, MENTRE GLI ALTRI CAMALEONTI  N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it-IT" sz="2000" spc="-1" strike="noStrike">
                <a:solidFill>
                  <a:srgbClr val="eb613d"/>
                </a:solidFill>
                <a:latin typeface="Comic Sans MS"/>
                <a:ea typeface="Times New Roman"/>
              </a:rPr>
              <a:t>DAVIDE C.          1°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062000" y="1981080"/>
          <a:ext cx="7020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81080"/>
                    <a:ext cx="7020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tente</cp:lastModifiedBy>
  <dcterms:modified xsi:type="dcterms:W3CDTF">2007-05-10T21:39:22Z</dcterms:modified>
  <cp:revision>16</cp:revision>
  <dc:subject/>
  <dc:title>PowerPoint Presentation</dc:title>
</cp:coreProperties>
</file>