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ind.wav" ContentType="audio/x-wav"/>
  <Override PartName="/ppt/media/chimes.wav" ContentType="audio/x-wav"/>
  <Override PartName="/ppt/media/image5.png" ContentType="image/png"/>
  <Override PartName="/ppt/media/whoosh.wav" ContentType="audio/x-wav"/>
  <Override PartName="/ppt/media/image8.png" ContentType="image/png"/>
  <Override PartName="/ppt/media/hammer.wav" ContentType="audio/x-wav"/>
  <Override PartName="/ppt/media/click.wav" ContentType="audio/x-wav"/>
  <Override PartName="/ppt/media/image7.jpeg" ContentType="image/jpeg"/>
  <Override PartName="/ppt/media/image1.png" ContentType="image/png"/>
  <Override PartName="/ppt/media/image3.png" ContentType="image/png"/>
  <Override PartName="/ppt/media/drumroll.wav" ContentType="audio/x-wav"/>
  <Override PartName="/ppt/media/image2.wmf" ContentType="image/x-wmf"/>
  <Override PartName="/ppt/media/push.wav" ContentType="audio/x-wav"/>
  <Override PartName="/ppt/media/image4.png" ContentType="image/png"/>
  <Override PartName="/ppt/media/coin.wav" ContentType="audio/x-wav"/>
  <Override PartName="/ppt/media/image6.jpeg" ContentType="image/jpeg"/>
  <Override PartName="/ppt/media/applause.wav" ContentType="audio/x-wav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2FA-0037-4CAF-9CCB-B98A9E3B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6B7-6402-4FC6-9165-A2CCC02B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CBD-1B29-405E-99AE-24384266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EEF-559F-4396-8057-ED959D0D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8E52-64AD-4E9D-A8AF-0037BC7A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452B-8E38-43F4-B6DB-DBAE4499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05E3-9E68-44A7-8488-7F4275F8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A6FF-0A5D-422C-9E78-8A3BC9D6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B710-8248-418F-A5DE-59CFA727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9975-DBBE-4042-AF4B-B4E8E454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F849-8E7C-45EA-AB81-E46CD2AB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37E-17AF-4D30-9679-DEEBEEB6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8967-5E9F-492B-8659-E5C9B8D9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E444-E09D-4BB8-81F9-0A6B957F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2BA2-E159-4DC5-8020-B2CE987F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90C9-C069-4E4F-8EF3-3BB6DFF4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6A79-D1BC-49FC-A0B5-F0EDBDDB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E40-5F04-4386-9E15-FF56CE0D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A1C-B5A3-46A6-B79C-DA3CD8E6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78C-1466-4ADF-A7B1-EC0363F0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7D8-0FBE-484F-8F0C-2619CE75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16C-8259-4AE3-8AAE-196F046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B6A-A893-4158-BC26-B3618800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6EF-90F2-4C97-9B72-A18FC8F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44F6-5C83-4518-92A7-AB07E58D1B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54D8-8DC2-4476-927C-C93F91C8D15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hammer.wav" TargetMode="External"/><Relationship Id="rId2" Type="http://schemas.microsoft.com/office/2007/relationships/media" Target="file:///tmp/home/.config/libreoffice/4/user/gallery/hammer.wav" TargetMode="External"/><Relationship Id="rId3" Type="http://schemas.openxmlformats.org/officeDocument/2006/relationships/image" Target="../media/image3.png"/><Relationship Id="rId4" Type="http://schemas.openxmlformats.org/officeDocument/2006/relationships/audio" Target="../media/push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a1c5"/>
            </a:gs>
            <a:gs pos="50000">
              <a:srgbClr val="ffd4b7"/>
            </a:gs>
            <a:gs pos="100000">
              <a:srgbClr val="b1a1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8000" y="404280"/>
            <a:ext cx="7775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00cc"/>
                </a:solidFill>
                <a:latin typeface="Jokerman"/>
              </a:rPr>
              <a:t>Classi III A e III B </a:t>
            </a:r>
            <a:br>
              <a:rPr sz="5400"/>
            </a:br>
            <a:r>
              <a:rPr b="1" lang="it-IT" sz="5400" spc="-1" strike="noStrike">
                <a:solidFill>
                  <a:srgbClr val="9900cc"/>
                </a:solidFill>
                <a:latin typeface="Jokerman"/>
              </a:rPr>
              <a:t>di Burago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71280" y="2420640"/>
            <a:ext cx="7272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19 aprile 2007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Incontro con i ragazzi di Bucares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“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UN NASO ROSSO CONTRO</a:t>
            </a:r>
            <a:r>
              <a:rPr b="1" lang="en-US" sz="4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’INDIFFERENZA “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2349360"/>
          <a:ext cx="130500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1305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667640" y="595008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fff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1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ef0"/>
            </a:gs>
            <a:gs pos="50000">
              <a:srgbClr val="e5eef7"/>
            </a:gs>
            <a:gs pos="100000">
              <a:srgbClr val="ccd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3f7fb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3300"/>
                </a:solidFill>
                <a:latin typeface="Scruff LET"/>
              </a:rPr>
              <a:t>Un naso rosso</a:t>
            </a:r>
            <a:r>
              <a:rPr b="1" lang="en-US" sz="7200" spc="-1" strike="noStrike">
                <a:solidFill>
                  <a:srgbClr val="ff3300"/>
                </a:solidFill>
                <a:latin typeface="Scruff LET"/>
              </a:rPr>
              <a:t> …</a:t>
            </a:r>
            <a:endParaRPr b="1" lang="en-US" sz="72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92000" y="177336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arrington"/>
              </a:rPr>
              <a:t>Si può avere per</a:t>
            </a:r>
            <a:r>
              <a:rPr b="1" lang="en-US" sz="2800" spc="-1" strike="noStrike">
                <a:solidFill>
                  <a:srgbClr val="000000"/>
                </a:solidFill>
                <a:latin typeface="Harringto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Il fredd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Il raffreddo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Un piant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Un pug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Un gran ride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2997360"/>
            <a:ext cx="1582920" cy="165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3645000"/>
            <a:ext cx="217440" cy="288720"/>
          </a:xfrm>
          <a:prstGeom prst="ellipse">
            <a:avLst/>
          </a:prstGeom>
          <a:solidFill>
            <a:srgbClr val="f3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667640" y="573408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fff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05092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2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200"/>
                            </p:stCondLst>
                            <p:childTnLst>
                              <p:par>
                                <p:cTn id="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2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2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2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2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2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2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ef7"/>
            </a:gs>
            <a:gs pos="50000">
              <a:srgbClr val="ccdef0"/>
            </a:gs>
            <a:gs pos="100000">
              <a:srgbClr val="e5ee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Scruff LET"/>
              </a:rPr>
              <a:t>… </a:t>
            </a:r>
            <a:r>
              <a:rPr b="1" lang="en-US" sz="6000" spc="-1" strike="noStrike">
                <a:solidFill>
                  <a:srgbClr val="ff3300"/>
                </a:solidFill>
                <a:latin typeface="Scruff LET"/>
              </a:rPr>
              <a:t>contro l’indifferenza</a:t>
            </a:r>
            <a:endParaRPr b="1" lang="en-US" sz="6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Ma tu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conosci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Il significato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del termine</a:t>
            </a:r>
            <a:r>
              <a:rPr b="1" lang="en-US" sz="4000" spc="-1" strike="noStrike">
                <a:solidFill>
                  <a:srgbClr val="000000"/>
                </a:solidFill>
                <a:latin typeface="Orland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hiller"/>
              </a:rPr>
              <a:t>“ </a:t>
            </a:r>
            <a:r>
              <a:rPr b="0" lang="en-US" sz="4000" spc="-1" strike="noStrike" u="sng">
                <a:solidFill>
                  <a:srgbClr val="3f2fb5"/>
                </a:solidFill>
                <a:uFillTx/>
                <a:latin typeface="Chiller"/>
                <a:hlinkClick r:id="rId1" action="ppaction://hlinksldjump"/>
              </a:rPr>
              <a:t>indifferenz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hiller"/>
              </a:rPr>
              <a:t>” 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1055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f2fb5"/>
                </a:solidFill>
                <a:uFillTx/>
                <a:latin typeface="Chiller"/>
                <a:hlinkClick r:id="rId2" action="ppaction://hlinksldjump"/>
              </a:rPr>
              <a:t>Quando</a:t>
            </a:r>
            <a:r>
              <a:rPr b="0" lang="en-US" sz="4400" spc="-1" strike="noStrike" u="sng">
                <a:solidFill>
                  <a:srgbClr val="3f2fb5"/>
                </a:solidFill>
                <a:uFillTx/>
                <a:latin typeface="Chiller"/>
                <a:hlinkClick r:id="rId3" action="ppaction://hlinksldjump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si è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indifferenti 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055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Sai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che qualcu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ha provato a</a:t>
            </a: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f2fb5"/>
                </a:solidFill>
                <a:uFillTx/>
                <a:latin typeface="Chiller"/>
                <a:hlinkClick r:id="rId4" action="ppaction://hlinksldjump"/>
              </a:rPr>
              <a:t>non essere indifferente</a:t>
            </a:r>
            <a:r>
              <a:rPr b="0" lang="en-US" sz="2400" spc="-1" strike="noStrike" u="sng">
                <a:solidFill>
                  <a:srgbClr val="3f2fb5"/>
                </a:solidFill>
                <a:uFillTx/>
                <a:latin typeface="VAGRounded BT"/>
                <a:hlinkClick r:id="rId5" action="ppaction://hlinksldjump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AGRounde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5157720"/>
            <a:ext cx="792360" cy="647640"/>
          </a:xfrm>
          <a:prstGeom prst="rect">
            <a:avLst/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 BT"/>
              </a:rPr>
              <a:t>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5157720"/>
            <a:ext cx="792000" cy="647640"/>
          </a:xfrm>
          <a:prstGeom prst="rect">
            <a:avLst/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 BT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595008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fff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7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767 L -0.125 0.28767 L 0 0 Z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1 0.075 -0.08257 0.125 -0.08257 C 0.175 -0.08257 0.22 -0.05061 0.25 0 C 0.22 0.05061 0.175 0.08257 0.125 0.08257 C 0.075 0.08257 0.03 0.05061 0 0 Z"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61366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1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7a4af"/>
                </a:solidFill>
                <a:latin typeface="Curlz MT"/>
              </a:rPr>
              <a:t>Indifferenza </a:t>
            </a:r>
            <a:r>
              <a:rPr b="1" lang="en-US" sz="8800" spc="-1" strike="noStrike">
                <a:solidFill>
                  <a:srgbClr val="3f2fb5"/>
                </a:solidFill>
                <a:latin typeface="Curlz MT"/>
              </a:rPr>
              <a:t>?</a:t>
            </a:r>
            <a:r>
              <a:rPr b="1" lang="en-US" sz="4800" spc="-1" strike="noStrike">
                <a:solidFill>
                  <a:srgbClr val="77a4af"/>
                </a:solidFill>
                <a:latin typeface="Curlz MT"/>
              </a:rPr>
              <a:t> </a:t>
            </a:r>
            <a:endParaRPr b="1" lang="en-US" sz="48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9152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… </a:t>
            </a: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significa …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Atteggiamento di </a:t>
            </a:r>
            <a:r>
              <a:rPr b="0" i="1" lang="en-US" sz="4800" spc="-1" strike="noStrike">
                <a:solidFill>
                  <a:srgbClr val="000000"/>
                </a:solidFill>
                <a:latin typeface="VAGRounded BT"/>
              </a:rPr>
              <a:t>noncuranza, di freddezza</a:t>
            </a: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VAGRounded BT"/>
              </a:rPr>
              <a:t>di distacco</a:t>
            </a: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 nei confronti di qualcuno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ef0"/>
            </a:gs>
            <a:gs pos="100000">
              <a:srgbClr val="e5ee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7a4af"/>
                </a:solidFill>
                <a:latin typeface="Curlz MT"/>
              </a:rPr>
              <a:t>quando</a:t>
            </a:r>
            <a:endParaRPr b="1" lang="en-US" sz="88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1628640"/>
            <a:ext cx="7561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n si aiuta chi è in difficolt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È pov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È s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È amma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ha casa o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ve in paesi dove c’è la gu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maltra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ha da mang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7156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6868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7a4af"/>
                </a:solidFill>
                <a:latin typeface="Curlz MT"/>
              </a:rPr>
              <a:t>Non essere indifferente</a:t>
            </a:r>
            <a:endParaRPr b="1" lang="en-US" sz="72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Miloud ha aiutato i ragazzi in difficoltà insegnandogli anche l’arte circense.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Come ai ragazzi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di Bucarest</a:t>
            </a:r>
            <a:r>
              <a:rPr b="1" lang="it-IT" sz="2800" spc="-1" strike="noStrike">
                <a:solidFill>
                  <a:srgbClr val="000000"/>
                </a:solidFill>
                <a:latin typeface="Castella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1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2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2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2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2d"/>
            </a:gs>
            <a:gs pos="100000">
              <a:srgbClr val="bfb1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067280" y="2349360"/>
            <a:ext cx="4465440" cy="3527640"/>
          </a:xfrm>
          <a:prstGeom prst="rect">
            <a:avLst/>
          </a:prstGeom>
          <a:gradFill rotWithShape="0">
            <a:gsLst>
              <a:gs pos="0">
                <a:srgbClr val="f30309"/>
              </a:gs>
              <a:gs pos="50000">
                <a:srgbClr val="725991"/>
              </a:gs>
              <a:gs pos="100000">
                <a:srgbClr val="f3030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276640"/>
            <a:ext cx="3095640" cy="3960720"/>
          </a:xfrm>
          <a:prstGeom prst="rect">
            <a:avLst/>
          </a:prstGeom>
          <a:gradFill rotWithShape="0">
            <a:gsLst>
              <a:gs pos="0">
                <a:srgbClr val="725991"/>
              </a:gs>
              <a:gs pos="50000">
                <a:srgbClr val="f30309"/>
              </a:gs>
              <a:gs pos="100000">
                <a:srgbClr val="7259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8000" y="259920"/>
            <a:ext cx="8136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it-IT" sz="6600" spc="-1" strike="noStrike">
                <a:solidFill>
                  <a:srgbClr val="f9071e"/>
                </a:solidFill>
                <a:latin typeface="Jokerman"/>
              </a:rPr>
              <a:t>Ed eccoli qui !!</a:t>
            </a:r>
            <a:br>
              <a:rPr sz="6600"/>
            </a:br>
            <a:br>
              <a:rPr sz="4000"/>
            </a:br>
            <a:endParaRPr b="1" lang="en-US" sz="66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748240" cy="3663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859280" y="6093000"/>
            <a:ext cx="22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2f34"/>
                </a:solidFill>
                <a:latin typeface="Jokerman"/>
              </a:rPr>
              <a:t>Cia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6165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2fb5"/>
            </a:gs>
            <a:gs pos="100000">
              <a:srgbClr val="6558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369720"/>
            <a:ext cx="8280360" cy="6174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028000" y="587700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b9c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5:32:08Z</dcterms:created>
  <dc:creator>Stefania Mambretti</dc:creator>
  <dc:description/>
  <dc:language>en-US</dc:language>
  <cp:lastModifiedBy>Stefania Mambretti</cp:lastModifiedBy>
  <dcterms:modified xsi:type="dcterms:W3CDTF">2007-05-06T17:09:54Z</dcterms:modified>
  <cp:revision>15</cp:revision>
  <dc:subject/>
  <dc:title>Un naso rosso …</dc:title>
</cp:coreProperties>
</file>