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ind.wav" ContentType="audio/x-wav"/>
  <Override PartName="/ppt/media/chimes.wav" ContentType="audio/x-wav"/>
  <Override PartName="/ppt/media/image5.png" ContentType="image/png"/>
  <Override PartName="/ppt/media/whoosh.wav" ContentType="audio/x-wav"/>
  <Override PartName="/ppt/media/image8.png" ContentType="image/png"/>
  <Override PartName="/ppt/media/hammer.wav" ContentType="audio/x-wav"/>
  <Override PartName="/ppt/media/click.wav" ContentType="audio/x-wav"/>
  <Override PartName="/ppt/media/image7.jpeg" ContentType="image/jpeg"/>
  <Override PartName="/ppt/media/image1.png" ContentType="image/png"/>
  <Override PartName="/ppt/media/image3.png" ContentType="image/png"/>
  <Override PartName="/ppt/media/drumroll.wav" ContentType="audio/x-wav"/>
  <Override PartName="/ppt/media/image2.wmf" ContentType="image/x-wmf"/>
  <Override PartName="/ppt/media/push.wav" ContentType="audio/x-wav"/>
  <Override PartName="/ppt/media/image4.png" ContentType="image/png"/>
  <Override PartName="/ppt/media/coin.wav" ContentType="audio/x-wav"/>
  <Override PartName="/ppt/media/image6.jpeg" ContentType="image/jpeg"/>
  <Override PartName="/ppt/media/applause.wav" ContentType="audio/x-wav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EFC-1F13-41A1-9F1E-DFB4BA28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B7E-D76C-4241-91DD-984C5F2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FCF-3391-4152-B125-ADB8E399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7F4-2668-496F-A6E3-0A2D65B4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66AD-CF3D-4D02-8C92-C51E7EFC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5B6B-0B3B-4C48-98AF-A3ECB39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0473-5EE7-4E6B-AEC5-7C19A456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36E9-C0DE-47A5-88E6-0ABA44FF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0FB1-4E5D-4E99-93ED-F10DA88D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0F64-05AA-499F-B6B5-E19FEB09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EB5A-0334-4495-99D0-5B4B3D4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EB9-E744-46AC-81A8-4A46979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B0CB-80A6-4AF7-ACE4-042DDF11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2DEF-B06D-4C15-A37E-5F4D7B7D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6965-A0DD-41F9-B765-7832966E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B678-DE98-47CE-B1A0-92265828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E75D-C693-40C0-BF08-E42A12DE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DF4-22CA-4450-B078-C719ABD9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815-32FB-47D1-8C74-9B1FA811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9D4-BC83-45B7-A2B5-D8C7287D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351-B50D-4A7F-8DA0-AC7E2EC2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ED9-9535-47E3-AB51-E14F347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72D-836E-4A6A-8F4F-72128CE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BD1-0026-4599-98E1-A0D33ED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2840-F95E-489C-8CED-5CCACECF72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2fb5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77a4a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1894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2dce6"/>
                </a:gs>
                <a:gs pos="50000">
                  <a:srgbClr val="e0ebf6"/>
                </a:gs>
                <a:gs pos="100000">
                  <a:srgbClr val="d2dc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3f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2f6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3f7fb"/>
                </a:gs>
                <a:gs pos="100000">
                  <a:srgbClr val="f4f7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0eb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a4af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3DDE-7F0B-4E62-B7E6-C00B8E1D22E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ammer.wav" TargetMode="External"/><Relationship Id="rId2" Type="http://schemas.microsoft.com/office/2007/relationships/media" Target="file:///tmp/home/.config/libreoffice/4/user/gallery/hammer.wav" TargetMode="External"/><Relationship Id="rId3" Type="http://schemas.openxmlformats.org/officeDocument/2006/relationships/image" Target="../media/image3.png"/><Relationship Id="rId4" Type="http://schemas.openxmlformats.org/officeDocument/2006/relationships/audio" Target="../media/push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a1c5"/>
            </a:gs>
            <a:gs pos="50000">
              <a:srgbClr val="ffd4b7"/>
            </a:gs>
            <a:gs pos="100000">
              <a:srgbClr val="b1a1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8000" y="404280"/>
            <a:ext cx="7775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9900cc"/>
                </a:solidFill>
                <a:latin typeface="Jokerman"/>
              </a:rPr>
              <a:t>Classi III A e III B </a:t>
            </a:r>
            <a:br>
              <a:rPr sz="5400"/>
            </a:br>
            <a:r>
              <a:rPr b="1" lang="it-IT" sz="5400" spc="-1" strike="noStrike">
                <a:solidFill>
                  <a:srgbClr val="9900cc"/>
                </a:solidFill>
                <a:latin typeface="Jokerman"/>
              </a:rPr>
              <a:t>di Burago</a:t>
            </a:r>
            <a:endParaRPr b="1" lang="en-US" sz="54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71280" y="2420640"/>
            <a:ext cx="7272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19 aprile 2007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Incontro con i ragazzi di Bucares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“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UN NASO ROSSO CONTRO</a:t>
            </a:r>
            <a:r>
              <a:rPr b="1" lang="en-US" sz="4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’INDIFFERENZA “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2349360"/>
          <a:ext cx="130500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1305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667640" y="595008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1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ef0"/>
            </a:gs>
            <a:gs pos="50000">
              <a:srgbClr val="e5eef7"/>
            </a:gs>
            <a:gs pos="100000">
              <a:srgbClr val="ccd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3f7fb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3300"/>
                </a:solidFill>
                <a:latin typeface="Scruff LET"/>
              </a:rPr>
              <a:t>Un naso rosso</a:t>
            </a:r>
            <a:r>
              <a:rPr b="1" lang="en-US" sz="7200" spc="-1" strike="noStrike">
                <a:solidFill>
                  <a:srgbClr val="ff3300"/>
                </a:solidFill>
                <a:latin typeface="Scruff LET"/>
              </a:rPr>
              <a:t> …</a:t>
            </a:r>
            <a:endParaRPr b="1" lang="en-US" sz="7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000" y="1773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rrington"/>
              </a:rPr>
              <a:t>Si può avere per</a:t>
            </a:r>
            <a:r>
              <a:rPr b="1" lang="en-US" sz="2800" spc="-1" strike="noStrike">
                <a:solidFill>
                  <a:srgbClr val="000000"/>
                </a:solidFill>
                <a:latin typeface="Harringto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Il fredd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Il raffreddo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Un piant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Un pug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Harrington"/>
              </a:rPr>
              <a:t>Un gran ride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2997360"/>
            <a:ext cx="1582920" cy="165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3645000"/>
            <a:ext cx="217440" cy="288720"/>
          </a:xfrm>
          <a:prstGeom prst="ellipse">
            <a:avLst/>
          </a:prstGeom>
          <a:solidFill>
            <a:srgbClr val="f3f7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667640" y="573408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05092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2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20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2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2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2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2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2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2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ef7"/>
            </a:gs>
            <a:gs pos="50000">
              <a:srgbClr val="ccdef0"/>
            </a:gs>
            <a:gs pos="100000">
              <a:srgbClr val="e5e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Scruff LET"/>
              </a:rPr>
              <a:t>… </a:t>
            </a:r>
            <a:r>
              <a:rPr b="1" lang="en-US" sz="6000" spc="-1" strike="noStrike">
                <a:solidFill>
                  <a:srgbClr val="ff3300"/>
                </a:solidFill>
                <a:latin typeface="Scruff LET"/>
              </a:rPr>
              <a:t>contro l’indifferenza</a:t>
            </a:r>
            <a:endParaRPr b="1" lang="en-US" sz="60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Ma tu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conosci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Il significato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AGRounded BT"/>
              </a:rPr>
              <a:t>del termine</a:t>
            </a:r>
            <a:r>
              <a:rPr b="1" lang="en-US" sz="4000" spc="-1" strike="noStrike">
                <a:solidFill>
                  <a:srgbClr val="000000"/>
                </a:solidFill>
                <a:latin typeface="Orland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hiller"/>
              </a:rPr>
              <a:t>“ </a:t>
            </a:r>
            <a:r>
              <a:rPr b="0" lang="en-US" sz="4000" spc="-1" strike="noStrike" u="sng">
                <a:solidFill>
                  <a:srgbClr val="3f2fb5"/>
                </a:solidFill>
                <a:uFillTx/>
                <a:latin typeface="Chiller"/>
                <a:hlinkClick r:id="rId1" action="ppaction://hlinksldjump"/>
              </a:rPr>
              <a:t>indifferenz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hiller"/>
              </a:rPr>
              <a:t>” 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1055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f2fb5"/>
                </a:solidFill>
                <a:uFillTx/>
                <a:latin typeface="Chiller"/>
                <a:hlinkClick r:id="rId2" action="ppaction://hlinksldjump"/>
              </a:rPr>
              <a:t>Quando</a:t>
            </a:r>
            <a:r>
              <a:rPr b="0" lang="en-US" sz="4400" spc="-1" strike="noStrike" u="sng">
                <a:solidFill>
                  <a:srgbClr val="3f2fb5"/>
                </a:solidFill>
                <a:uFillTx/>
                <a:latin typeface="Chiller"/>
                <a:hlinkClick r:id="rId3" action="ppaction://hlinksldjump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si è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indifferenti 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055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Sai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che qualcu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AGRounded BT"/>
              </a:rPr>
              <a:t>ha provato a</a:t>
            </a:r>
            <a:r>
              <a:rPr b="0" lang="en-US" sz="2400" spc="-1" strike="noStrike">
                <a:solidFill>
                  <a:srgbClr val="000000"/>
                </a:solidFill>
                <a:latin typeface="VAGRounde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f2fb5"/>
                </a:solidFill>
                <a:uFillTx/>
                <a:latin typeface="Chiller"/>
                <a:hlinkClick r:id="rId4" action="ppaction://hlinksldjump"/>
              </a:rPr>
              <a:t>non essere indifferente</a:t>
            </a:r>
            <a:r>
              <a:rPr b="0" lang="en-US" sz="2400" spc="-1" strike="noStrike" u="sng">
                <a:solidFill>
                  <a:srgbClr val="3f2fb5"/>
                </a:solidFill>
                <a:uFillTx/>
                <a:latin typeface="VAGRounded BT"/>
                <a:hlinkClick r:id="rId5" action="ppaction://hlinksldjump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AGRounde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5157720"/>
            <a:ext cx="792360" cy="647640"/>
          </a:xfrm>
          <a:prstGeom prst="rect">
            <a:avLst/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oadway BT"/>
              </a:rPr>
              <a:t>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5157720"/>
            <a:ext cx="792000" cy="647640"/>
          </a:xfrm>
          <a:prstGeom prst="rect">
            <a:avLst/>
          </a:prstGeom>
          <a:solidFill>
            <a:srgbClr val="b9c4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 BT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595008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7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767 L -0.125 0.28767 L 0 0 Z">
                                      <p:cBhvr>
                                        <p:cTn id="10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1 0.075 -0.08257 0.125 -0.08257 C 0.175 -0.08257 0.22 -0.05061 0.25 0 C 0.22 0.05061 0.175 0.08257 0.125 0.08257 C 0.075 0.08257 0.03 0.05061 0 0 Z"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61366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1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7a4af"/>
                </a:solidFill>
                <a:latin typeface="Curlz MT"/>
              </a:rPr>
              <a:t>Indifferenza </a:t>
            </a:r>
            <a:r>
              <a:rPr b="1" lang="en-US" sz="8800" spc="-1" strike="noStrike">
                <a:solidFill>
                  <a:srgbClr val="3f2fb5"/>
                </a:solidFill>
                <a:latin typeface="Curlz MT"/>
              </a:rPr>
              <a:t>?</a:t>
            </a:r>
            <a:r>
              <a:rPr b="1" lang="en-US" sz="4800" spc="-1" strike="noStrike">
                <a:solidFill>
                  <a:srgbClr val="77a4af"/>
                </a:solidFill>
                <a:latin typeface="Curlz MT"/>
              </a:rPr>
              <a:t> </a:t>
            </a:r>
            <a:endParaRPr b="1" lang="en-US" sz="48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9152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… </a:t>
            </a: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significa …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Atteggiamento di </a:t>
            </a:r>
            <a:r>
              <a:rPr b="0" i="1" lang="en-US" sz="4800" spc="-1" strike="noStrike">
                <a:solidFill>
                  <a:srgbClr val="000000"/>
                </a:solidFill>
                <a:latin typeface="VAGRounded BT"/>
              </a:rPr>
              <a:t>noncuranza, di freddezza</a:t>
            </a: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, </a:t>
            </a:r>
            <a:r>
              <a:rPr b="0" i="1" lang="en-US" sz="4800" spc="-1" strike="noStrike">
                <a:solidFill>
                  <a:srgbClr val="000000"/>
                </a:solidFill>
                <a:latin typeface="VAGRounded BT"/>
              </a:rPr>
              <a:t>di distacco</a:t>
            </a:r>
            <a:r>
              <a:rPr b="0" lang="en-US" sz="4800" spc="-1" strike="noStrike">
                <a:solidFill>
                  <a:srgbClr val="000000"/>
                </a:solidFill>
                <a:latin typeface="VAGRounded BT"/>
              </a:rPr>
              <a:t> nei confronti di qualcuno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ef0"/>
            </a:gs>
            <a:gs pos="100000">
              <a:srgbClr val="e5e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7a4af"/>
                </a:solidFill>
                <a:latin typeface="Curlz MT"/>
              </a:rPr>
              <a:t>quando</a:t>
            </a:r>
            <a:endParaRPr b="1" lang="en-US" sz="88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1628640"/>
            <a:ext cx="7561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n si aiuta chi è in difficolt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pov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s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È amma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ha casa o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ve in paesi dove c’è la gu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maltra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n ha da mang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715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6868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7a4af"/>
                </a:solidFill>
                <a:latin typeface="Curlz MT"/>
              </a:rPr>
              <a:t>Non essere indifferente</a:t>
            </a:r>
            <a:endParaRPr b="1" lang="en-US" sz="7200" spc="-1" strike="noStrike">
              <a:solidFill>
                <a:srgbClr val="77a4a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Miloud ha aiutato i ragazzi in difficoltà insegnandogli anche l’arte circense.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Come ai ragazzi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di Bucarest</a:t>
            </a:r>
            <a:r>
              <a:rPr b="1" lang="it-IT" sz="2800" spc="-1" strike="noStrike">
                <a:solidFill>
                  <a:srgbClr val="000000"/>
                </a:solidFill>
                <a:latin typeface="Castellar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1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2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2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a2d"/>
            </a:gs>
            <a:gs pos="100000">
              <a:srgbClr val="bfb1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67280" y="2349360"/>
            <a:ext cx="4465440" cy="3527640"/>
          </a:xfrm>
          <a:prstGeom prst="rect">
            <a:avLst/>
          </a:prstGeom>
          <a:gradFill rotWithShape="0">
            <a:gsLst>
              <a:gs pos="0">
                <a:srgbClr val="f30309"/>
              </a:gs>
              <a:gs pos="50000">
                <a:srgbClr val="725991"/>
              </a:gs>
              <a:gs pos="100000">
                <a:srgbClr val="f3030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276640"/>
            <a:ext cx="3095640" cy="3960720"/>
          </a:xfrm>
          <a:prstGeom prst="rect">
            <a:avLst/>
          </a:prstGeom>
          <a:gradFill rotWithShape="0">
            <a:gsLst>
              <a:gs pos="0">
                <a:srgbClr val="725991"/>
              </a:gs>
              <a:gs pos="50000">
                <a:srgbClr val="f30309"/>
              </a:gs>
              <a:gs pos="100000">
                <a:srgbClr val="7259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8000" y="259920"/>
            <a:ext cx="8136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it-IT" sz="6600" spc="-1" strike="noStrike">
                <a:solidFill>
                  <a:srgbClr val="f9071e"/>
                </a:solidFill>
                <a:latin typeface="Jokerman"/>
              </a:rPr>
              <a:t>Ed eccoli qui !!</a:t>
            </a:r>
            <a:br>
              <a:rPr sz="6600"/>
            </a:br>
            <a:br>
              <a:rPr sz="4000"/>
            </a:br>
            <a:endParaRPr b="1" lang="en-US" sz="6600" spc="-1" strike="noStrike">
              <a:solidFill>
                <a:srgbClr val="77a4a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748240" cy="366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59280" y="6093000"/>
            <a:ext cx="22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2f34"/>
                </a:solidFill>
                <a:latin typeface="Jokerman"/>
              </a:rPr>
              <a:t>Ciao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6165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2fb5"/>
            </a:gs>
            <a:gs pos="100000">
              <a:srgbClr val="6558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369720"/>
            <a:ext cx="8280360" cy="6174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028000" y="5877000"/>
            <a:ext cx="576360" cy="647640"/>
          </a:xfrm>
          <a:custGeom>
            <a:avLst/>
            <a:gdLst>
              <a:gd name="textAreaLeft" fmla="*/ 10800 w 576360"/>
              <a:gd name="textAreaRight" fmla="*/ 565560 w 576360"/>
              <a:gd name="textAreaTop" fmla="*/ 10800 h 647640"/>
              <a:gd name="textAreaBottom" fmla="*/ 6368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1183" y="417"/>
                </a:lnTo>
                <a:lnTo>
                  <a:pt x="417" y="417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1183" y="23853"/>
                </a:lnTo>
                <a:lnTo>
                  <a:pt x="21183" y="417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417" y="23853"/>
                </a:lnTo>
                <a:lnTo>
                  <a:pt x="21183" y="23853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417" y="417"/>
                </a:lnTo>
                <a:lnTo>
                  <a:pt x="417" y="23853"/>
                </a:lnTo>
                <a:close/>
              </a:path>
              <a:path fill="darken" w="21600" h="24270">
                <a:moveTo>
                  <a:pt x="3061" y="4396"/>
                </a:moveTo>
                <a:lnTo>
                  <a:pt x="18539" y="12135"/>
                </a:lnTo>
                <a:lnTo>
                  <a:pt x="3061" y="19874"/>
                </a:lnTo>
                <a:close/>
              </a:path>
            </a:pathLst>
          </a:custGeom>
          <a:solidFill>
            <a:srgbClr val="b9c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5:32:08Z</dcterms:created>
  <dc:creator>Stefania Mambretti</dc:creator>
  <dc:description/>
  <dc:language>en-US</dc:language>
  <cp:lastModifiedBy>Stefania Mambretti</cp:lastModifiedBy>
  <dcterms:modified xsi:type="dcterms:W3CDTF">2007-05-06T17:09:54Z</dcterms:modified>
  <cp:revision>15</cp:revision>
  <dc:subject/>
  <dc:title>Un naso rosso …</dc:title>
</cp:coreProperties>
</file>